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56C-FCF8-476A-845A-53687135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CDE-616A-4B8D-9066-05851EF2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381-6972-485E-957D-CF15B57E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501-B88E-4D0C-BA80-ABA25C89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F42-FA38-42F7-B8D9-005225E6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4D78-D14A-4356-8C65-C6ED9C91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4052-0EED-4C9B-913A-2ED599AB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E801-527E-457F-9B14-2376D87A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716-CD2E-40ED-A277-258212B5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552-DF36-49DA-9AEF-C3DA989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95F2-B23A-40D7-89AC-09BCE01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25D-7AD2-475E-BD6B-1B28737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1AA-D564-42E0-AAA4-4B13519E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2C1-ACA3-4056-9D22-0C4F5997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4AB-3ED5-46E0-8511-B9F0F8A5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3CD-AA89-4D83-BFF4-F6E14B7F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8267-2BB5-4703-BFEC-1C593214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931-9FAC-435B-9555-17B992D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938-31B7-48BC-A50A-D6CE24FE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5FC-DC37-4DAD-928A-5390EE1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40E-919A-4E48-AF40-0060DAB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7CB-9517-4B25-8E7A-957DBF0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F18-D8AF-4829-85F2-BF96589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F24-E862-4DE5-BA89-C30EF7A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5660-7D9E-4615-912E-4919FF721B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DCC0-873E-43DD-8317-907C3B8F53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715000"/>
            <a:ext cx="53352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Frank D Vines</cp:lastModifiedBy>
  <dcterms:modified xsi:type="dcterms:W3CDTF">2005-02-15T14:11:13Z</dcterms:modified>
  <cp:revision>27</cp:revision>
  <dc:subject/>
  <dc:title>Slide 1</dc:title>
</cp:coreProperties>
</file>